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50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6"/>
          </p:nvPr>
        </p:nvSpPr>
        <p:spPr>
          <a:xfrm>
            <a:off x="3852720" y="-360"/>
            <a:ext cx="2951280" cy="50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7"/>
          </p:nvPr>
        </p:nvSpPr>
        <p:spPr>
          <a:xfrm>
            <a:off x="0" y="9442080"/>
            <a:ext cx="2951280" cy="50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8"/>
          </p:nvPr>
        </p:nvSpPr>
        <p:spPr>
          <a:xfrm>
            <a:off x="3852720" y="9442080"/>
            <a:ext cx="2951280" cy="500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693E-FCE2-4DCA-9CE4-AB0737B1679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3852720" y="9442440"/>
            <a:ext cx="2951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8352-4047-442E-A7DC-47949757B6B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liennummernplatzhalter 3"/>
          <p:cNvSpPr/>
          <p:nvPr/>
        </p:nvSpPr>
        <p:spPr>
          <a:xfrm>
            <a:off x="3852720" y="9442440"/>
            <a:ext cx="2951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D134-25D4-4D62-BAED-074A927E5B7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liennummernplatzhalter 3"/>
          <p:cNvSpPr/>
          <p:nvPr/>
        </p:nvSpPr>
        <p:spPr>
          <a:xfrm>
            <a:off x="3852720" y="9442440"/>
            <a:ext cx="2951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0AC2-8795-4F2F-85C2-3C778C7B027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6060C-21E8-4F81-923D-737C0C39A7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D8644-C2A2-4669-A711-4CDFBBE8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09C4D-6702-4628-AC0B-4B48864D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03281-2A51-44D3-AC28-4C8A1E71E5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5A950-D82B-4C04-98A0-BF7E7B39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A1563-8E93-4BF1-9614-EFC7A5EC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D5C3C-D1DD-49E0-84FD-587D1477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FD9B9-66FB-4EB6-A6C1-C498DB4F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60EC9-007A-4F09-B26C-E236D269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213D1-06D3-44E8-A83F-81EF90E1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33DF1-5E12-4682-9798-45EF9A49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6B46B-4F0B-4B65-9B97-582343D6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96984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550"/>
              </a:spcBef>
              <a:buClr>
                <a:srgbClr val="009fba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550"/>
              </a:spcBef>
              <a:buClr>
                <a:srgbClr val="0f5494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550"/>
              </a:spcBef>
              <a:buClr>
                <a:srgbClr val="0f5494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550"/>
              </a:spcBef>
              <a:buClr>
                <a:srgbClr val="0f5494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BC5C-3AFE-4A3A-846A-C3D3CB33204D}" type="datetime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3572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62F4-02E4-4DE7-83C8-907E81661BF8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3836880" y="258840"/>
            <a:ext cx="1457280" cy="10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971640"/>
            <a:ext cx="9180360" cy="5886360"/>
          </a:xfrm>
          <a:prstGeom prst="rect">
            <a:avLst/>
          </a:prstGeom>
          <a:solidFill>
            <a:srgbClr val="0f549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3" name="Rectangle 26"/>
          <p:cNvSpPr/>
          <p:nvPr/>
        </p:nvSpPr>
        <p:spPr>
          <a:xfrm>
            <a:off x="457200" y="6435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2"/>
          <a:stretch/>
        </p:blipFill>
        <p:spPr>
          <a:xfrm>
            <a:off x="3836880" y="258840"/>
            <a:ext cx="1457280" cy="100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550"/>
              </a:spcBef>
              <a:buClr>
                <a:srgbClr val="009fba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550"/>
              </a:spcBef>
              <a:buClr>
                <a:srgbClr val="0f5494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550"/>
              </a:spcBef>
              <a:buClr>
                <a:srgbClr val="0f5494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550"/>
              </a:spcBef>
              <a:buClr>
                <a:srgbClr val="0f5494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6552720" y="6435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D862-E1BE-4C5D-8523-2BC6152F1C8A}" type="datetime">
              <a:rPr b="0" lang="en-GB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0" y="971640"/>
            <a:ext cx="9144000" cy="5886360"/>
          </a:xfrm>
          <a:prstGeom prst="rect">
            <a:avLst/>
          </a:prstGeom>
          <a:solidFill>
            <a:srgbClr val="0f5494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5" name="Rectangle 26"/>
          <p:cNvSpPr/>
          <p:nvPr/>
        </p:nvSpPr>
        <p:spPr>
          <a:xfrm>
            <a:off x="457200" y="6435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2"/>
          <a:stretch/>
        </p:blipFill>
        <p:spPr>
          <a:xfrm>
            <a:off x="3836880" y="258840"/>
            <a:ext cx="1457280" cy="100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550"/>
              </a:spcBef>
              <a:buClr>
                <a:srgbClr val="009fba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550"/>
              </a:spcBef>
              <a:buClr>
                <a:srgbClr val="0f5494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550"/>
              </a:spcBef>
              <a:buClr>
                <a:srgbClr val="0f5494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550"/>
              </a:spcBef>
              <a:buClr>
                <a:srgbClr val="0f5494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6552720" y="6435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1F29-E868-42F9-B33D-675C75720C64}" type="datetime">
              <a:rPr b="0" lang="en-GB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0" y="0"/>
            <a:ext cx="9144000" cy="96984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3836880" y="258840"/>
            <a:ext cx="1457280" cy="100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550"/>
              </a:spcBef>
              <a:buClr>
                <a:srgbClr val="009fba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550"/>
              </a:spcBef>
              <a:buClr>
                <a:srgbClr val="0f5494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550"/>
              </a:spcBef>
              <a:buClr>
                <a:srgbClr val="0f5494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550"/>
              </a:spcBef>
              <a:buClr>
                <a:srgbClr val="0f5494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5"/>
          </p:nvPr>
        </p:nvSpPr>
        <p:spPr>
          <a:xfrm>
            <a:off x="456840" y="6435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CCE6-A10D-4772-8506-EB7B77728624}" type="datetime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82680" y="1476360"/>
            <a:ext cx="8532720" cy="32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A balanced framework for </a:t>
            </a:r>
            <a:br>
              <a:rPr sz="2800"/>
            </a:b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the licensing of Standard Essential Patents</a:t>
            </a:r>
            <a:br>
              <a:rPr sz="2800"/>
            </a:b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d624"/>
                </a:solidFill>
                <a:latin typeface="Verdana"/>
              </a:rPr>
              <a:t>Anne von Zukowski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d624"/>
                </a:solidFill>
                <a:latin typeface="Verdana"/>
              </a:rPr>
              <a:t>Intellectual Property and Fight against Counterfeit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d624"/>
                </a:solidFill>
                <a:latin typeface="Verdana"/>
              </a:rPr>
              <a:t>European Commission, DG GROWTH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07800" y="5439960"/>
            <a:ext cx="696276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Verdana"/>
              </a:rPr>
              <a:t>SBS training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Verdana"/>
              </a:rPr>
              <a:t>IPR-based standardisation –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Verdana"/>
              </a:rPr>
              <a:t>What are the opportunities and challenges for SMEs?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Verdana"/>
              </a:rPr>
              <a:t>Brussels, 29 June 2017</a:t>
            </a:r>
            <a:r>
              <a:rPr b="1" lang="de-DE" sz="16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br>
              <a:rPr sz="2000"/>
            </a:b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Date Placeholder 6"/>
          <p:cNvSpPr/>
          <p:nvPr/>
        </p:nvSpPr>
        <p:spPr>
          <a:xfrm>
            <a:off x="6553080" y="6435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8680" y="1358640"/>
            <a:ext cx="815508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f5494"/>
                </a:solidFill>
                <a:latin typeface="Verdana"/>
              </a:rPr>
              <a:t>SEPs and Open Source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618920"/>
            <a:ext cx="8524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In the context of current technology evolution, open source software implementations becomes more and more extended, included for ICT standardis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buClr>
                <a:srgbClr val="0f5494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Integration between open source based solutions and interoperability standards is win-win situ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Commission supports OS solutions. FRAND can also accommodate royalty-free concep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Need to clarify the interaction between open source communities projects and SDOs process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buClr>
                <a:srgbClr val="0f54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Date Placeholder 3"/>
          <p:cNvSpPr/>
          <p:nvPr/>
        </p:nvSpPr>
        <p:spPr>
          <a:xfrm>
            <a:off x="457200" y="6435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CEA2-7649-45B8-BE93-2CA2F6433BDC}" type="datetime"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30/07/26</a:t>
            </a:fld>
            <a:endParaRPr b="1" lang="en-US" sz="9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8680" y="1358640"/>
            <a:ext cx="815508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f5494"/>
                </a:solidFill>
                <a:latin typeface="Verdana"/>
              </a:rPr>
              <a:t>Next steps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618920"/>
            <a:ext cx="8524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Calibri"/>
              </a:rPr>
              <a:t>Ongoing follow-up discussions with stakeholders in bilateral and multilateral setting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Calibri"/>
              </a:rPr>
              <a:t>Internal work of the Commiss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Calibri"/>
              </a:rPr>
              <a:t>Commission Communication scheduled for this year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 algn="just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 algn="just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 algn="just">
              <a:lnSpc>
                <a:spcPct val="80000"/>
              </a:lnSpc>
              <a:buClr>
                <a:srgbClr val="0f54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Date Placeholder 3"/>
          <p:cNvSpPr/>
          <p:nvPr/>
        </p:nvSpPr>
        <p:spPr>
          <a:xfrm>
            <a:off x="457200" y="6435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9D42-5A47-45C6-BDF3-75A0158BF23C}" type="datetime"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30/07/26</a:t>
            </a:fld>
            <a:endParaRPr b="1" lang="en-US" sz="9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400" y="1339920"/>
            <a:ext cx="90392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9440" y="2295360"/>
            <a:ext cx="82170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343080" indent="-343080" algn="just">
              <a:lnSpc>
                <a:spcPct val="8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Calibri"/>
              </a:rPr>
              <a:t>Thank you for your attention!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Calibri"/>
              </a:rPr>
              <a:t>anne.von-zukowski@ec.europa.eu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 algn="just">
              <a:lnSpc>
                <a:spcPct val="8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Calibri"/>
              </a:rPr>
              <a:t>https://ec.europa.eu/growth/industry/intellectual-property/patents/standards_de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 algn="just">
              <a:lnSpc>
                <a:spcPct val="8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 algn="just">
              <a:lnSpc>
                <a:spcPct val="8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 algn="just">
              <a:lnSpc>
                <a:spcPct val="80000"/>
              </a:lnSpc>
              <a:buClr>
                <a:srgbClr val="0f549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457200" y="6435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ECBC-3599-4544-BB37-4F1CF16AA8C1}" type="datetime"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30/07/26</a:t>
            </a:fld>
            <a:endParaRPr b="1" lang="en-US" sz="9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1347840"/>
            <a:ext cx="815508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f5494"/>
                </a:solidFill>
                <a:latin typeface="Verdana"/>
              </a:rPr>
              <a:t>The dilemma at the intersection of IP and standardisation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45680" y="2619000"/>
            <a:ext cx="82170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Create incentives and reward for R&amp;D</a:t>
            </a:r>
            <a:r>
              <a:rPr b="0" lang="de-DE" sz="1600" spc="-1" strike="noStrike">
                <a:solidFill>
                  <a:srgbClr val="0f5494"/>
                </a:solidFill>
                <a:latin typeface="Verdana"/>
              </a:rPr>
              <a:t>, innovation and contribution of top technology to standard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Access </a:t>
            </a:r>
            <a:r>
              <a:rPr b="0" lang="de-DE" sz="1600" spc="-1" strike="noStrike">
                <a:solidFill>
                  <a:srgbClr val="0f5494"/>
                </a:solidFill>
                <a:latin typeface="Verdana"/>
              </a:rPr>
              <a:t>to standardised technology at fair terms to ensure wide dissemination of a standard and its technology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f5494"/>
                </a:solidFill>
                <a:latin typeface="Verdana"/>
              </a:rPr>
              <a:t>Need for a framework enabling smooth and efficient process for SEP licensing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f5494"/>
                </a:solidFill>
                <a:latin typeface="Verdana"/>
              </a:rPr>
              <a:t>New environment with the advent of the</a:t>
            </a: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 Internet of Thing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f5494"/>
                </a:solidFill>
                <a:latin typeface="Verdana"/>
              </a:rPr>
              <a:t>Clear stance taken in other jurisdictions – need for </a:t>
            </a: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European vision</a:t>
            </a:r>
            <a:r>
              <a:rPr b="0" lang="de-DE" sz="1600" spc="-1" strike="noStrike">
                <a:solidFill>
                  <a:srgbClr val="0f5494"/>
                </a:solidFill>
                <a:latin typeface="Verdana"/>
              </a:rPr>
              <a:t> on the topic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435720"/>
            <a:ext cx="2133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5739-D486-46A5-894A-A76F3683F97B}" type="slidenum"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1" lang="en-US" sz="9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1347840"/>
            <a:ext cx="815508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f5494"/>
                </a:solidFill>
                <a:latin typeface="Verdana"/>
              </a:rPr>
              <a:t>Three key ingredients for balanced and effcient SEP licensing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45680" y="2619000"/>
            <a:ext cx="82170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fb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f5494"/>
                </a:solidFill>
                <a:latin typeface="Verdana"/>
              </a:rPr>
              <a:t>A </a:t>
            </a: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transparent</a:t>
            </a:r>
            <a:r>
              <a:rPr b="0" lang="de-DE" sz="1600" spc="-1" strike="noStrike">
                <a:solidFill>
                  <a:srgbClr val="0f5494"/>
                </a:solidFill>
                <a:latin typeface="Verdana"/>
              </a:rPr>
              <a:t> environment for negotiations between SEP holders and potential licensee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fb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fb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f5494"/>
                </a:solidFill>
                <a:latin typeface="Verdana"/>
              </a:rPr>
              <a:t>Common </a:t>
            </a: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valuation</a:t>
            </a:r>
            <a:r>
              <a:rPr b="0" lang="de-DE" sz="1600" spc="-1" strike="noStrike">
                <a:solidFill>
                  <a:srgbClr val="0f5494"/>
                </a:solidFill>
                <a:latin typeface="Verdana"/>
              </a:rPr>
              <a:t> principles for SEPs technology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fb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fb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f5494"/>
                </a:solidFill>
                <a:latin typeface="Verdana"/>
              </a:rPr>
              <a:t>A balanced and predictable </a:t>
            </a: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enforcement</a:t>
            </a:r>
            <a:r>
              <a:rPr b="0" lang="de-DE" sz="1600" spc="-1" strike="noStrike">
                <a:solidFill>
                  <a:srgbClr val="0f5494"/>
                </a:solidFill>
                <a:latin typeface="Verdana"/>
              </a:rPr>
              <a:t> regime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435720"/>
            <a:ext cx="2133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0A69-78D6-49F0-9FD9-7483FA9E7E7D}" type="slidenum"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1" lang="en-US" sz="9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1347840"/>
            <a:ext cx="815508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0f5494"/>
                </a:solidFill>
                <a:latin typeface="Verdana"/>
              </a:rPr>
              <a:t>Imperfections in all three pillars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20840" y="2212560"/>
            <a:ext cx="8216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lvl="1" marL="698400" indent="-26856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009fb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f5494"/>
                </a:solidFill>
                <a:latin typeface="Verdana"/>
              </a:rPr>
              <a:t>Opaque information about SEP exposure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00"/>
              </a:spcBef>
              <a:buClr>
                <a:srgbClr val="0f5494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f5494"/>
                </a:solidFill>
                <a:latin typeface="Verdana"/>
              </a:rPr>
              <a:t>Very high number of declared SEP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00"/>
              </a:spcBef>
              <a:buClr>
                <a:srgbClr val="0f5494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f5494"/>
                </a:solidFill>
                <a:latin typeface="Verdana"/>
              </a:rPr>
              <a:t>Based on self-declaration without scrutin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00"/>
              </a:spcBef>
              <a:buClr>
                <a:srgbClr val="0f5494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f5494"/>
                </a:solidFill>
                <a:latin typeface="Verdana"/>
              </a:rPr>
              <a:t>Increasing number of SEP holders for a single standard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009fb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009fb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f5494"/>
                </a:solidFill>
                <a:latin typeface="Verdana"/>
              </a:rPr>
              <a:t>Key valuation and licensing principles debated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00"/>
              </a:spcBef>
              <a:buClr>
                <a:srgbClr val="0f5494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f5494"/>
                </a:solidFill>
                <a:latin typeface="Verdana"/>
              </a:rPr>
              <a:t>Calculation  base for royalt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00"/>
              </a:spcBef>
              <a:buClr>
                <a:srgbClr val="0f5494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f5494"/>
                </a:solidFill>
                <a:latin typeface="Verdana"/>
              </a:rPr>
              <a:t>Licensing level in the production chain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00"/>
              </a:spcBef>
              <a:buClr>
                <a:srgbClr val="0f5494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f5494"/>
                </a:solidFill>
                <a:latin typeface="Verdana"/>
              </a:rPr>
              <a:t>No transparency on licensing condition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00"/>
              </a:spcBef>
              <a:buClr>
                <a:srgbClr val="0f5494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f5494"/>
                </a:solidFill>
                <a:latin typeface="Verdana"/>
              </a:rPr>
              <a:t>Lack of predictability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00"/>
              </a:spcBef>
              <a:buClr>
                <a:srgbClr val="0f5494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f5494"/>
                </a:solidFill>
                <a:latin typeface="Verdana"/>
              </a:rPr>
              <a:t>Compatibility of Open Source and FRAND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009fb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009fb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f5494"/>
                </a:solidFill>
                <a:latin typeface="Verdana"/>
              </a:rPr>
              <a:t>An evolving enforcement regime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00"/>
              </a:spcBef>
              <a:buClr>
                <a:srgbClr val="0f5494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f5494"/>
                </a:solidFill>
                <a:latin typeface="Verdana"/>
              </a:rPr>
              <a:t>Interpretation and development of the Huawei judgement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4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435720"/>
            <a:ext cx="2133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39F9-3845-4192-A3C2-1E831B78FC73}" type="slidenum"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1" lang="en-US" sz="9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1339920"/>
            <a:ext cx="846756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0f5494"/>
                </a:solidFill>
                <a:latin typeface="Verdana"/>
              </a:rPr>
              <a:t>Room for improvement?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9440" y="2180880"/>
            <a:ext cx="82170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Commission Communications on “Digitising European Industries” and “ICT Standardisation Priorities” (April 2016):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Calibri"/>
              </a:rPr>
              <a:t>“</a:t>
            </a:r>
            <a:r>
              <a:rPr b="0" i="1" lang="en-GB" sz="1600" spc="-1" strike="noStrike">
                <a:solidFill>
                  <a:srgbClr val="0f5494"/>
                </a:solidFill>
                <a:latin typeface="Calibri"/>
              </a:rPr>
              <a:t>The Commission will work in collaboration with stakeholders including ESOs, EPO, industry and research, on the identification, by 2017, of possible measures to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3" marL="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3" marL="457200" algn="just">
              <a:lnSpc>
                <a:spcPct val="80000"/>
              </a:lnSpc>
              <a:buClr>
                <a:srgbClr val="0f5494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Calibri"/>
              </a:rPr>
              <a:t> </a:t>
            </a:r>
            <a:r>
              <a:rPr b="0" i="1" lang="en-GB" sz="1600" spc="-1" strike="noStrike">
                <a:solidFill>
                  <a:srgbClr val="0f5494"/>
                </a:solidFill>
                <a:latin typeface="Calibri"/>
              </a:rPr>
              <a:t>improve accessibility and reliability of information on patent scope, including measures to increase the transparency and quality of standard essential patent declarations as well as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3" marL="457200" algn="just">
              <a:lnSpc>
                <a:spcPct val="80000"/>
              </a:lnSpc>
              <a:buClr>
                <a:srgbClr val="0f5494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3" marL="457200" algn="just">
              <a:lnSpc>
                <a:spcPct val="80000"/>
              </a:lnSpc>
              <a:buClr>
                <a:srgbClr val="0f5494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Calibri"/>
              </a:rPr>
              <a:t> </a:t>
            </a:r>
            <a:r>
              <a:rPr b="0" i="1" lang="en-GB" sz="1600" spc="-1" strike="noStrike">
                <a:solidFill>
                  <a:srgbClr val="0f5494"/>
                </a:solidFill>
                <a:latin typeface="Calibri"/>
              </a:rPr>
              <a:t>to clarify core elements of an equitable, effective and enforceable licensing methodology around FRAND principles and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3" marL="457200" algn="just">
              <a:lnSpc>
                <a:spcPct val="80000"/>
              </a:lnSpc>
              <a:buClr>
                <a:srgbClr val="0f5494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3" marL="457200" algn="just">
              <a:lnSpc>
                <a:spcPct val="80000"/>
              </a:lnSpc>
              <a:buClr>
                <a:srgbClr val="0f5494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Calibri"/>
              </a:rPr>
              <a:t> </a:t>
            </a:r>
            <a:r>
              <a:rPr b="0" i="1" lang="en-GB" sz="1600" spc="-1" strike="noStrike">
                <a:solidFill>
                  <a:srgbClr val="0f5494"/>
                </a:solidFill>
                <a:latin typeface="Calibri"/>
              </a:rPr>
              <a:t>to facilitate the efficient and balanced settlement of disputes.”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Date Placeholder 3"/>
          <p:cNvSpPr/>
          <p:nvPr/>
        </p:nvSpPr>
        <p:spPr>
          <a:xfrm>
            <a:off x="457200" y="6435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561F-8F86-46FB-936D-BD6232CFE5F9}" type="datetime"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30/07/26</a:t>
            </a:fld>
            <a:endParaRPr b="1" lang="en-US" sz="9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9440" y="1128600"/>
            <a:ext cx="815508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f5494"/>
                </a:solidFill>
                <a:latin typeface="Verdana"/>
              </a:rPr>
              <a:t>	</a:t>
            </a:r>
            <a:br>
              <a:rPr sz="2500"/>
            </a:br>
            <a:r>
              <a:rPr b="1" lang="en-GB" sz="2500" spc="-1" strike="noStrike">
                <a:solidFill>
                  <a:srgbClr val="0f5494"/>
                </a:solidFill>
                <a:latin typeface="Verdana"/>
              </a:rPr>
              <a:t>Guiding principles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618920"/>
            <a:ext cx="8524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Calibri"/>
              </a:rPr>
              <a:t>Holistic approach across all three pillar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Calibri"/>
              </a:rPr>
              <a:t>Focus on licensing process conditions not on prescribing an outcom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Calibri"/>
              </a:rPr>
              <a:t>Preserve flexibility for evolving business and technology environmen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Calibri"/>
              </a:rPr>
              <a:t>Soft law instrument providing signposts for European vision of balanced SEPs licensing environmen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 algn="just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 algn="just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 algn="just">
              <a:lnSpc>
                <a:spcPct val="80000"/>
              </a:lnSpc>
              <a:buClr>
                <a:srgbClr val="0f54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457200" y="6435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1741-2F28-4F57-B52C-DD2B0E74B2F2}" type="datetime"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30/07/26</a:t>
            </a:fld>
            <a:endParaRPr b="1" lang="en-US" sz="9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18680" y="1358640"/>
            <a:ext cx="815508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f5494"/>
                </a:solidFill>
                <a:latin typeface="Verdana"/>
              </a:rPr>
              <a:t>Possible measures suggested in Commission consultations and studies:</a:t>
            </a:r>
            <a:br>
              <a:rPr sz="2500"/>
            </a:br>
            <a:r>
              <a:rPr b="1" lang="en-GB" sz="2500" spc="-1" strike="noStrike">
                <a:solidFill>
                  <a:srgbClr val="0f5494"/>
                </a:solidFill>
                <a:latin typeface="Verdana"/>
              </a:rPr>
              <a:t>Transparency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618920"/>
            <a:ext cx="8524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Calibri"/>
              </a:rPr>
              <a:t>Increase precision of declar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Calibri"/>
              </a:rPr>
              <a:t>Revision at the time of final adoption of the standard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Calibri"/>
              </a:rPr>
              <a:t>Update following litig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Calibri"/>
              </a:rPr>
              <a:t>Essentiality checks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 algn="just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 algn="just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 algn="just">
              <a:lnSpc>
                <a:spcPct val="80000"/>
              </a:lnSpc>
              <a:buClr>
                <a:srgbClr val="0f54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Date Placeholder 3"/>
          <p:cNvSpPr/>
          <p:nvPr/>
        </p:nvSpPr>
        <p:spPr>
          <a:xfrm>
            <a:off x="457200" y="6435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6190-8428-454C-91A4-680909CE9F1F}" type="datetime"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30/07/26</a:t>
            </a:fld>
            <a:endParaRPr b="1" lang="en-US" sz="9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8680" y="1358640"/>
            <a:ext cx="815508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f5494"/>
                </a:solidFill>
                <a:latin typeface="Verdana"/>
              </a:rPr>
              <a:t>Possible measures: Valuation and licensing principles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618920"/>
            <a:ext cx="8524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Calibri"/>
              </a:rPr>
              <a:t>Mapping of valuation methodologies for FRAND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Calibri"/>
              </a:rPr>
              <a:t>Differentiation according to use case of the implemented technology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Calibri"/>
              </a:rPr>
              <a:t>Clarify licensing rights along production chai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Calibri"/>
              </a:rPr>
              <a:t>Transfer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Calibri"/>
              </a:rPr>
              <a:t>Role of Patent pool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 algn="just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 algn="just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 algn="just">
              <a:lnSpc>
                <a:spcPct val="80000"/>
              </a:lnSpc>
              <a:buClr>
                <a:srgbClr val="0f54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Date Placeholder 3"/>
          <p:cNvSpPr/>
          <p:nvPr/>
        </p:nvSpPr>
        <p:spPr>
          <a:xfrm>
            <a:off x="457200" y="6435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62E5-C4AE-4445-BA1B-610E322405F8}" type="datetime"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30/07/26</a:t>
            </a:fld>
            <a:endParaRPr b="1" lang="en-US" sz="9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8680" y="1358640"/>
            <a:ext cx="815508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f5494"/>
                </a:solidFill>
                <a:latin typeface="Verdana"/>
              </a:rPr>
              <a:t>Possible measures: Enforcement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618920"/>
            <a:ext cx="8524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Calibri"/>
              </a:rPr>
              <a:t>Some guidance on the Huawei-proces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buClr>
                <a:srgbClr val="0f5494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Calibri"/>
              </a:rPr>
              <a:t>Portfolio litigation and damag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Calibri"/>
              </a:rPr>
              <a:t>Enhancing the role of arbitr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Calibri"/>
              </a:rPr>
              <a:t>Proportionality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buClr>
                <a:srgbClr val="0f54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457200" y="6435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8438-389A-4789-9500-5DEC97DB4E11}" type="datetime"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30/07/26</a:t>
            </a:fld>
            <a:endParaRPr b="1" lang="en-US" sz="9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14:20:54Z</dcterms:created>
  <dc:creator>KLEINWEGE Helge (MARKT)</dc:creator>
  <dc:description/>
  <dc:language>en-US</dc:language>
  <cp:lastModifiedBy>Tessa</cp:lastModifiedBy>
  <cp:lastPrinted>2017-04-03T07:38:22Z</cp:lastPrinted>
  <dcterms:modified xsi:type="dcterms:W3CDTF">2017-06-29T06:31:33Z</dcterms:modified>
  <cp:revision>799</cp:revision>
  <dc:subject/>
  <dc:title>PowerPoint Presentation</dc:title>
</cp:coreProperties>
</file>