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608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960" rIns="93960" tIns="48960" bIns="4896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4c5d68"/>
                </a:solidFill>
                <a:latin typeface="Trebuchet MS"/>
              </a:rPr>
              <a:t>Click to move the slide</a:t>
            </a: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0" y="942948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8960" bIns="489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48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755640"/>
                <a:tab algn="l" pos="1512720"/>
                <a:tab algn="l" pos="2268360"/>
                <a:tab algn="l" pos="302580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  <a:tab algn="l" pos="10337760"/>
                <a:tab algn="l" pos="108075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55640"/>
                <a:tab algn="l" pos="1512720"/>
                <a:tab algn="l" pos="2268360"/>
                <a:tab algn="l" pos="302580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  <a:tab algn="l" pos="10337760"/>
                <a:tab algn="l" pos="10807560"/>
              </a:tabLst>
            </a:pPr>
            <a:fld id="{04FB8B15-4539-4723-8A9A-E98A98D935D4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49840" y="942984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8960" bIns="48960" anchor="b">
            <a:noAutofit/>
          </a:bodyPr>
          <a:p>
            <a:pPr algn="r">
              <a:tabLst>
                <a:tab algn="l" pos="0"/>
                <a:tab algn="l" pos="755640"/>
                <a:tab algn="l" pos="1512720"/>
                <a:tab algn="l" pos="2268360"/>
                <a:tab algn="l" pos="302580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  <a:tab algn="l" pos="10337760"/>
                <a:tab algn="l" pos="10807560"/>
              </a:tabLst>
            </a:pPr>
            <a:fld id="{12094444-927D-4FF6-B39E-9B54553362F7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1131840" y="744480"/>
            <a:ext cx="4533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49840" y="942984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8960" bIns="48960" anchor="b">
            <a:noAutofit/>
          </a:bodyPr>
          <a:p>
            <a:pPr algn="r">
              <a:tabLst>
                <a:tab algn="l" pos="0"/>
                <a:tab algn="l" pos="755640"/>
                <a:tab algn="l" pos="1512720"/>
                <a:tab algn="l" pos="2268360"/>
                <a:tab algn="l" pos="302580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  <a:tab algn="l" pos="10337760"/>
                <a:tab algn="l" pos="10807560"/>
              </a:tabLst>
            </a:pPr>
            <a:fld id="{AE9A89C4-F610-4126-B8AE-12C0E9D1502A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9840" y="942984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8960" bIns="48960" anchor="b">
            <a:noAutofit/>
          </a:bodyPr>
          <a:p>
            <a:pPr algn="r">
              <a:tabLst>
                <a:tab algn="l" pos="0"/>
                <a:tab algn="l" pos="755640"/>
                <a:tab algn="l" pos="1512720"/>
                <a:tab algn="l" pos="2268360"/>
                <a:tab algn="l" pos="302580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  <a:tab algn="l" pos="10337760"/>
                <a:tab algn="l" pos="10807560"/>
              </a:tabLst>
            </a:pPr>
            <a:fld id="{51D6B5AE-1B1E-4758-9320-38EDE82B2110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nomy 25:1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ou shall not have in your bag differing weights, a large and a small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hronicles 23:2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ith the showbread, and the fine flour for a grain offering, and unleavened wafers, or what is baked in the pan or what is well-mixed, and all measures of volume and siz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erbs 11: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alse balance is an abomination to the LORD, But a just weight is His delight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zekiel 45: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ou shall have just balances, a just ephah and a just b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49840" y="942984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8960" bIns="48960" anchor="b">
            <a:noAutofit/>
          </a:bodyPr>
          <a:p>
            <a:pPr algn="r">
              <a:tabLst>
                <a:tab algn="l" pos="0"/>
                <a:tab algn="l" pos="755640"/>
                <a:tab algn="l" pos="1512720"/>
                <a:tab algn="l" pos="2268360"/>
                <a:tab algn="l" pos="302580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  <a:tab algn="l" pos="10337760"/>
                <a:tab algn="l" pos="10807560"/>
              </a:tabLst>
            </a:pPr>
            <a:fld id="{598D6AE4-1272-49A8-AA03-2C3CBA2ED479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1131840" y="744480"/>
            <a:ext cx="4533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49840" y="942984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8960" bIns="48960" anchor="b">
            <a:noAutofit/>
          </a:bodyPr>
          <a:p>
            <a:pPr algn="r">
              <a:tabLst>
                <a:tab algn="l" pos="0"/>
                <a:tab algn="l" pos="755640"/>
                <a:tab algn="l" pos="1512720"/>
                <a:tab algn="l" pos="2268360"/>
                <a:tab algn="l" pos="302580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  <a:tab algn="l" pos="10337760"/>
                <a:tab algn="l" pos="10807560"/>
              </a:tabLst>
            </a:pPr>
            <a:fld id="{2A0FF3E0-6E8A-46AA-A86B-F832F6269371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49840" y="942984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8960" bIns="48960" anchor="b">
            <a:noAutofit/>
          </a:bodyPr>
          <a:p>
            <a:pPr algn="r">
              <a:tabLst>
                <a:tab algn="l" pos="0"/>
                <a:tab algn="l" pos="755640"/>
                <a:tab algn="l" pos="1512720"/>
                <a:tab algn="l" pos="2268360"/>
                <a:tab algn="l" pos="302580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  <a:tab algn="l" pos="10337760"/>
                <a:tab algn="l" pos="10807560"/>
              </a:tabLst>
            </a:pPr>
            <a:fld id="{49C43961-969B-4E4C-994D-33AFC0D9FD1D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49840" y="942984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8960" bIns="48960" anchor="b">
            <a:noAutofit/>
          </a:bodyPr>
          <a:p>
            <a:pPr algn="r">
              <a:tabLst>
                <a:tab algn="l" pos="0"/>
                <a:tab algn="l" pos="755640"/>
                <a:tab algn="l" pos="1512720"/>
                <a:tab algn="l" pos="2268360"/>
                <a:tab algn="l" pos="302580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  <a:tab algn="l" pos="10337760"/>
                <a:tab algn="l" pos="10807560"/>
              </a:tabLst>
            </a:pPr>
            <a:fld id="{D6D012E0-C9DE-4755-A55C-EC9DB982A208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49840" y="942984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8960" bIns="48960" anchor="b">
            <a:noAutofit/>
          </a:bodyPr>
          <a:p>
            <a:pPr algn="r">
              <a:tabLst>
                <a:tab algn="l" pos="0"/>
                <a:tab algn="l" pos="755640"/>
                <a:tab algn="l" pos="1512720"/>
                <a:tab algn="l" pos="2268360"/>
                <a:tab algn="l" pos="302580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  <a:tab algn="l" pos="10337760"/>
                <a:tab algn="l" pos="10807560"/>
              </a:tabLst>
            </a:pPr>
            <a:fld id="{0DE5A8DC-3211-43A8-8486-DFBF4C0F3D7F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49840" y="942984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8960" bIns="48960" anchor="b">
            <a:noAutofit/>
          </a:bodyPr>
          <a:p>
            <a:pPr algn="r">
              <a:tabLst>
                <a:tab algn="l" pos="0"/>
                <a:tab algn="l" pos="755640"/>
                <a:tab algn="l" pos="1512720"/>
                <a:tab algn="l" pos="2268360"/>
                <a:tab algn="l" pos="302580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  <a:tab algn="l" pos="10337760"/>
                <a:tab algn="l" pos="10807560"/>
              </a:tabLst>
            </a:pPr>
            <a:fld id="{F326E0AB-8862-42E6-8722-BE525F0CF878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9840" y="942984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8960" bIns="48960" anchor="b">
            <a:noAutofit/>
          </a:bodyPr>
          <a:p>
            <a:pPr algn="r">
              <a:tabLst>
                <a:tab algn="l" pos="0"/>
                <a:tab algn="l" pos="755640"/>
                <a:tab algn="l" pos="1512720"/>
                <a:tab algn="l" pos="2268360"/>
                <a:tab algn="l" pos="302580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  <a:tab algn="l" pos="10337760"/>
                <a:tab algn="l" pos="10807560"/>
              </a:tabLst>
            </a:pPr>
            <a:fld id="{41FE0E20-26EA-43AC-9A9F-E3ACC8AD337A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49840" y="942984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8960" bIns="48960" anchor="b">
            <a:noAutofit/>
          </a:bodyPr>
          <a:p>
            <a:pPr algn="r">
              <a:tabLst>
                <a:tab algn="l" pos="0"/>
                <a:tab algn="l" pos="755640"/>
                <a:tab algn="l" pos="1512720"/>
                <a:tab algn="l" pos="2268360"/>
                <a:tab algn="l" pos="302580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  <a:tab algn="l" pos="10337760"/>
                <a:tab algn="l" pos="10807560"/>
              </a:tabLst>
            </a:pPr>
            <a:fld id="{5C2F456A-48D7-4933-B2EB-33209DA35AB0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49840" y="942984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8960" bIns="48960" anchor="b">
            <a:noAutofit/>
          </a:bodyPr>
          <a:p>
            <a:pPr algn="r">
              <a:tabLst>
                <a:tab algn="l" pos="0"/>
                <a:tab algn="l" pos="755640"/>
                <a:tab algn="l" pos="1512720"/>
                <a:tab algn="l" pos="2268360"/>
                <a:tab algn="l" pos="302580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  <a:tab algn="l" pos="10337760"/>
                <a:tab algn="l" pos="10807560"/>
              </a:tabLst>
            </a:pPr>
            <a:fld id="{8A211901-E04E-4989-9ECF-0F354EE3690F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7999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484280"/>
            <a:ext cx="79995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515040"/>
            <a:ext cx="79995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7999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484280"/>
            <a:ext cx="39034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9034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515040"/>
            <a:ext cx="39034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240" y="3515040"/>
            <a:ext cx="39034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7999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484280"/>
            <a:ext cx="25754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484280"/>
            <a:ext cx="25754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5640" y="1484280"/>
            <a:ext cx="25754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515040"/>
            <a:ext cx="25754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515040"/>
            <a:ext cx="25754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5640" y="3515040"/>
            <a:ext cx="25754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7999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484280"/>
            <a:ext cx="799956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7999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484280"/>
            <a:ext cx="79995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7999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484280"/>
            <a:ext cx="3903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903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7999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188640"/>
            <a:ext cx="799956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7999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484280"/>
            <a:ext cx="39034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903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515040"/>
            <a:ext cx="39034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7999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484280"/>
            <a:ext cx="799956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7999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484280"/>
            <a:ext cx="3903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9034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240" y="3515040"/>
            <a:ext cx="39034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7999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484280"/>
            <a:ext cx="39034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9034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515040"/>
            <a:ext cx="79995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7999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484280"/>
            <a:ext cx="79995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515040"/>
            <a:ext cx="79995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7999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484280"/>
            <a:ext cx="39034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9034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515040"/>
            <a:ext cx="39034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240" y="3515040"/>
            <a:ext cx="39034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7999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484280"/>
            <a:ext cx="25754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0960" y="1484280"/>
            <a:ext cx="25754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5640" y="1484280"/>
            <a:ext cx="25754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515040"/>
            <a:ext cx="25754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0960" y="3515040"/>
            <a:ext cx="25754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5640" y="3515040"/>
            <a:ext cx="25754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7999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484280"/>
            <a:ext cx="79995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7999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484280"/>
            <a:ext cx="3903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903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7999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188640"/>
            <a:ext cx="799956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7999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484280"/>
            <a:ext cx="39034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903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515040"/>
            <a:ext cx="39034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7999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484280"/>
            <a:ext cx="3903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9034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240" y="3515040"/>
            <a:ext cx="39034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7999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484280"/>
            <a:ext cx="39034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240" y="1484280"/>
            <a:ext cx="39034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515040"/>
            <a:ext cx="79995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5929200"/>
            <a:ext cx="9144000" cy="80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7999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4c5d68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66280" y="1484280"/>
            <a:ext cx="79995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906480" indent="-436680">
              <a:lnSpc>
                <a:spcPct val="104000"/>
              </a:lnSpc>
              <a:spcBef>
                <a:spcPts val="550"/>
              </a:spcBef>
              <a:buClr>
                <a:srgbClr val="4c5d68"/>
              </a:buClr>
              <a:buSzPct val="65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303200" indent="-393480">
              <a:lnSpc>
                <a:spcPct val="104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1692360" indent="-387360">
              <a:lnSpc>
                <a:spcPct val="104000"/>
              </a:lnSpc>
              <a:spcBef>
                <a:spcPts val="55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2092320" indent="-398520">
              <a:lnSpc>
                <a:spcPct val="104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2092320" indent="-398520">
              <a:lnSpc>
                <a:spcPct val="104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2092320" indent="-398520">
              <a:lnSpc>
                <a:spcPct val="104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Line 4"/>
          <p:cNvSpPr/>
          <p:nvPr/>
        </p:nvSpPr>
        <p:spPr>
          <a:xfrm flipH="1">
            <a:off x="-1440" y="1273320"/>
            <a:ext cx="9146880" cy="1440"/>
          </a:xfrm>
          <a:prstGeom prst="line">
            <a:avLst/>
          </a:prstGeom>
          <a:ln w="19080">
            <a:solidFill>
              <a:srgbClr val="4c5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4481640" y="320040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71640" y="6431040"/>
            <a:ext cx="180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Picture 16" descr="Logo UEAPME copy"/>
          <p:cNvPicPr/>
          <p:nvPr/>
        </p:nvPicPr>
        <p:blipFill>
          <a:blip r:embed="rId3"/>
          <a:stretch/>
        </p:blipFill>
        <p:spPr>
          <a:xfrm>
            <a:off x="7786800" y="6000840"/>
            <a:ext cx="106668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0977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4c5d68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033720" y="5334120"/>
            <a:ext cx="30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4c5d68"/>
                </a:solidFill>
                <a:latin typeface="Verdana"/>
              </a:rPr>
              <a:t>www.ueapm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6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8360" indent="-46836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906480" indent="-436680">
              <a:lnSpc>
                <a:spcPct val="104000"/>
              </a:lnSpc>
              <a:spcBef>
                <a:spcPts val="550"/>
              </a:spcBef>
              <a:buClr>
                <a:srgbClr val="4c5d68"/>
              </a:buClr>
              <a:buSzPct val="65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303200" indent="-393480">
              <a:lnSpc>
                <a:spcPct val="104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1692360" indent="-387360">
              <a:lnSpc>
                <a:spcPct val="104000"/>
              </a:lnSpc>
              <a:spcBef>
                <a:spcPts val="55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2092320" indent="-398520">
              <a:lnSpc>
                <a:spcPct val="104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2092320" indent="-398520">
              <a:lnSpc>
                <a:spcPct val="104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2092320" indent="-398520">
              <a:lnSpc>
                <a:spcPct val="104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7" name="Picture 11" descr="Logo UEAPME copy"/>
          <p:cNvPicPr/>
          <p:nvPr/>
        </p:nvPicPr>
        <p:blipFill>
          <a:blip r:embed="rId3"/>
          <a:stretch/>
        </p:blipFill>
        <p:spPr>
          <a:xfrm>
            <a:off x="7072200" y="357120"/>
            <a:ext cx="1752840" cy="93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708280"/>
            <a:ext cx="87850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4c5d68"/>
                </a:solidFill>
                <a:latin typeface="Trebuchet MS"/>
              </a:rPr>
              <a:t>“</a:t>
            </a:r>
            <a:r>
              <a:rPr b="1" lang="en-GB" sz="2800" spc="-1" strike="noStrike">
                <a:solidFill>
                  <a:srgbClr val="4c5d68"/>
                </a:solidFill>
                <a:latin typeface="Trebuchet MS"/>
              </a:rPr>
              <a:t>Reinforcing the cooperation within the standardisation community”</a:t>
            </a:r>
            <a:br>
              <a:rPr sz="2800"/>
            </a:br>
            <a:br>
              <a:rPr sz="2800"/>
            </a:br>
            <a:r>
              <a:rPr b="1" lang="en-GB" sz="2400" spc="-1" strike="noStrike">
                <a:solidFill>
                  <a:srgbClr val="4c5d68"/>
                </a:solidFill>
                <a:latin typeface="Trebuchet MS"/>
              </a:rPr>
              <a:t>How to ensure the voluntary nature of standards</a:t>
            </a:r>
            <a:br>
              <a:rPr sz="2800"/>
            </a:br>
            <a:br>
              <a:rPr sz="2800"/>
            </a:br>
            <a:r>
              <a:rPr b="1" lang="en-GB" sz="2000" spc="-1" strike="noStrike">
                <a:solidFill>
                  <a:srgbClr val="4c5d68"/>
                </a:solidFill>
                <a:latin typeface="Trebuchet MS"/>
              </a:rPr>
              <a:t>SBS Annual Conference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4c5d68"/>
                </a:solidFill>
                <a:latin typeface="Trebuchet MS"/>
              </a:rPr>
              <a:t>Luc Hendrickx</a:t>
            </a:r>
            <a:br>
              <a:rPr sz="2000"/>
            </a:br>
            <a:r>
              <a:rPr b="1" lang="en-GB" sz="2000" spc="-1" strike="noStrike">
                <a:solidFill>
                  <a:srgbClr val="4c5d68"/>
                </a:solidFill>
                <a:latin typeface="Trebuchet MS"/>
              </a:rPr>
              <a:t>Brussels, 19</a:t>
            </a:r>
            <a:r>
              <a:rPr b="1" lang="en-GB" sz="2000" spc="-1" strike="noStrike" baseline="30000">
                <a:solidFill>
                  <a:srgbClr val="4c5d68"/>
                </a:solidFill>
                <a:latin typeface="Trebuchet MS"/>
              </a:rPr>
              <a:t>th</a:t>
            </a:r>
            <a:r>
              <a:rPr b="1" lang="en-GB" sz="2000" spc="-1" strike="noStrike">
                <a:solidFill>
                  <a:srgbClr val="4c5d68"/>
                </a:solidFill>
                <a:latin typeface="Trebuchet MS"/>
              </a:rPr>
              <a:t>  October 2016</a:t>
            </a:r>
            <a:br>
              <a:rPr sz="2800"/>
            </a:br>
            <a:r>
              <a:rPr b="1" lang="en-GB" sz="2000" spc="-1" strike="noStrike">
                <a:solidFill>
                  <a:srgbClr val="4c5d68"/>
                </a:solidFill>
                <a:latin typeface="Trebuchet MS"/>
              </a:rPr>
              <a:t>Residence Palace</a:t>
            </a:r>
            <a:endParaRPr b="0" lang="en-US" sz="2000" spc="-1" strike="noStrike">
              <a:solidFill>
                <a:srgbClr val="4c5d68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7999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4c5d68"/>
                </a:solidFill>
                <a:latin typeface="Trebuchet MS"/>
              </a:rPr>
              <a:t>Consequences</a:t>
            </a: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2000" y="1523880"/>
            <a:ext cx="8820000" cy="34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3320" indent="-46332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Trebuchet MS"/>
              </a:rPr>
              <a:t>A parallel between standards and regulation cannot be denied also parallel between good regulatory practice and good standard making: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6332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63320" indent="-46332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Trebuchet MS"/>
              </a:rPr>
              <a:t>Thus: need for  Regulatory impact assessments, more openness and transparency, balancing needs of stakeholders,  b</a:t>
            </a:r>
            <a:r>
              <a:rPr b="0" lang="en-IE" sz="2200" spc="-1" strike="noStrike">
                <a:solidFill>
                  <a:srgbClr val="000000"/>
                </a:solidFill>
                <a:latin typeface="Trebuchet MS"/>
              </a:rPr>
              <a:t>etter involvement of SM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6332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63320" indent="-46332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Trebuchet MS"/>
              </a:rPr>
              <a:t>To guarantee voluntary nature: </a:t>
            </a:r>
            <a:r>
              <a:rPr b="0" i="1" lang="en-IE" sz="2200" spc="-1" strike="noStrike">
                <a:solidFill>
                  <a:srgbClr val="000000"/>
                </a:solidFill>
                <a:latin typeface="Trebuchet MS"/>
              </a:rPr>
              <a:t>do not standardise…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6332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7999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4c5d68"/>
                </a:solidFill>
                <a:latin typeface="Trebuchet MS"/>
              </a:rPr>
              <a:t>Pro Memory…</a:t>
            </a: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2000" y="1523880"/>
            <a:ext cx="8820000" cy="34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68360" indent="-46836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Trebuchet MS"/>
              </a:rPr>
              <a:t>IFRS (International Financial Reporting Standards) – EFRAG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6836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68360" indent="-46836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Trebuchet MS"/>
              </a:rPr>
              <a:t>Disclosure of non-financial information – corporate social responsibilit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708280"/>
            <a:ext cx="8785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4c5d68"/>
                </a:solidFill>
                <a:latin typeface="Verdana"/>
              </a:rPr>
              <a:t>Questions? Remarks?</a:t>
            </a:r>
            <a:br>
              <a:rPr sz="3600"/>
            </a:br>
            <a:br>
              <a:rPr sz="3600"/>
            </a:br>
            <a:r>
              <a:rPr b="1" lang="en-GB" sz="3400" spc="-1" strike="noStrike">
                <a:solidFill>
                  <a:srgbClr val="4c5d68"/>
                </a:solidFill>
                <a:latin typeface="Trebuchet MS"/>
              </a:rPr>
              <a:t>Thank you for your attention!</a:t>
            </a:r>
            <a:br>
              <a:rPr sz="3400"/>
            </a:br>
            <a:r>
              <a:rPr b="1" lang="en-GB" sz="2400" spc="-1" strike="noStrike">
                <a:solidFill>
                  <a:srgbClr val="ff0000"/>
                </a:solidFill>
                <a:latin typeface="Trebuchet MS"/>
              </a:rPr>
              <a:t>www.ueapme.com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Trebuchet MS"/>
              </a:rPr>
              <a:t>l.hendrickx@ueapme.com</a:t>
            </a:r>
            <a:br>
              <a:rPr sz="3400"/>
            </a:br>
            <a:endParaRPr b="0" lang="en-US" sz="2400" spc="-1" strike="noStrike">
              <a:solidFill>
                <a:srgbClr val="4c5d68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7999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4c5d68"/>
                </a:solidFill>
                <a:latin typeface="Trebuchet MS"/>
              </a:rPr>
              <a:t>UEAPME</a:t>
            </a: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820000" cy="36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60360" indent="-36036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Employers’ organisation representing the interests at European level of crafts, trades and Small and Medium-Sized Enterpris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036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60360" indent="-36036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67 member organisations (national cross-sectoral associations and European trade federation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036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60360" indent="-36036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Represents 12 million enterprises in EU which employ over 55 million people in 34 countrie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036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60360" indent="-36036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Recognised European Social Partn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036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0360" indent="-36036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Co-funder of SB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7999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4c5d68"/>
                </a:solidFill>
                <a:latin typeface="Trebuchet MS"/>
              </a:rPr>
              <a:t>European Framework  (1)</a:t>
            </a: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2000" y="1523880"/>
            <a:ext cx="8820000" cy="34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6836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68360" indent="-46836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Regulation 1025/2012 :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i="1" lang="en-GB" sz="2200" spc="-1" strike="noStrike">
                <a:solidFill>
                  <a:srgbClr val="000000"/>
                </a:solidFill>
                <a:latin typeface="Trebuchet MS"/>
              </a:rPr>
              <a:t>Standards are </a:t>
            </a:r>
            <a:r>
              <a:rPr b="1" i="1" lang="en-GB" sz="2200" spc="-1" strike="noStrike">
                <a:solidFill>
                  <a:srgbClr val="000000"/>
                </a:solidFill>
                <a:latin typeface="Trebuchet MS"/>
              </a:rPr>
              <a:t>voluntary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” “</a:t>
            </a:r>
            <a:r>
              <a:rPr b="0" i="1" lang="en-GB" sz="2200" spc="-1" strike="noStrike">
                <a:solidFill>
                  <a:srgbClr val="000000"/>
                </a:solidFill>
                <a:latin typeface="Trebuchet MS"/>
              </a:rPr>
              <a:t>compliance with standards is </a:t>
            </a:r>
            <a:r>
              <a:rPr b="1" i="1" lang="en-GB" sz="2200" spc="-1" strike="noStrike">
                <a:solidFill>
                  <a:srgbClr val="000000"/>
                </a:solidFill>
                <a:latin typeface="Trebuchet MS"/>
              </a:rPr>
              <a:t>not compul</a:t>
            </a:r>
            <a:r>
              <a:rPr b="0" i="1" lang="en-GB" sz="2200" spc="-1" strike="noStrike">
                <a:solidFill>
                  <a:srgbClr val="000000"/>
                </a:solidFill>
                <a:latin typeface="Trebuchet MS"/>
              </a:rPr>
              <a:t>sory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” (art.2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6836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6836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68360" indent="-46836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Standardisation package – European Standards for the 21</a:t>
            </a:r>
            <a:r>
              <a:rPr b="0" lang="en-GB" sz="2200" spc="-1" strike="noStrike" baseline="30000">
                <a:solidFill>
                  <a:srgbClr val="000000"/>
                </a:solidFill>
                <a:latin typeface="Trebuchet MS"/>
              </a:rPr>
              <a:t>st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 Century (COM(2016)358) : “</a:t>
            </a:r>
            <a:r>
              <a:rPr b="0" i="1" lang="en-GB" sz="2200" spc="-1" strike="noStrike">
                <a:solidFill>
                  <a:srgbClr val="000000"/>
                </a:solidFill>
                <a:latin typeface="Trebuchet MS"/>
              </a:rPr>
              <a:t>European Standards are </a:t>
            </a:r>
            <a:r>
              <a:rPr b="1" i="1" lang="en-GB" sz="2200" spc="-1" strike="noStrike">
                <a:solidFill>
                  <a:srgbClr val="000000"/>
                </a:solidFill>
                <a:latin typeface="Trebuchet MS"/>
              </a:rPr>
              <a:t>volunt</a:t>
            </a:r>
            <a:r>
              <a:rPr b="1" lang="en-GB" sz="2200" spc="-1" strike="noStrike">
                <a:solidFill>
                  <a:srgbClr val="000000"/>
                </a:solidFill>
                <a:latin typeface="Trebuchet MS"/>
              </a:rPr>
              <a:t>ary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7999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4c5d68"/>
                </a:solidFill>
                <a:latin typeface="Trebuchet MS"/>
              </a:rPr>
              <a:t>European Framework  (2)</a:t>
            </a: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2000" y="1523880"/>
            <a:ext cx="8820000" cy="34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But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Communication COM (2011) 311 “A Strategic vision for European standards: Moving forward to enhance and accelerate the sustainable growth of the European economy in 2020” states: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Trebuchet MS"/>
              </a:rPr>
              <a:t>European standards and standardisation are very effective policy tools for the EU. …, they are used as policy instruments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rebuchet MS"/>
              </a:rPr>
              <a:t>to ensure</a:t>
            </a:r>
            <a:r>
              <a:rPr b="0" i="1" lang="en-US" sz="2200" spc="-1" strike="noStrike">
                <a:solidFill>
                  <a:srgbClr val="000000"/>
                </a:solidFill>
                <a:latin typeface="Trebuchet MS"/>
              </a:rPr>
              <a:t>,…, a proper functioning of the Single market, a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rebuchet MS"/>
              </a:rPr>
              <a:t>high level of consumer and environmental protection</a:t>
            </a:r>
            <a:r>
              <a:rPr b="0" i="1" lang="en-US" sz="2200" spc="-1" strike="noStrike">
                <a:solidFill>
                  <a:srgbClr val="000000"/>
                </a:solidFill>
                <a:latin typeface="Trebuchet MS"/>
              </a:rPr>
              <a:t>, and more innovation and social inclusion. “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7999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4c5d68"/>
                </a:solidFill>
                <a:latin typeface="Trebuchet MS"/>
              </a:rPr>
              <a:t>“</a:t>
            </a:r>
            <a:r>
              <a:rPr b="0" lang="en-GB" sz="3000" spc="-1" strike="noStrike">
                <a:solidFill>
                  <a:srgbClr val="4c5d68"/>
                </a:solidFill>
                <a:latin typeface="Trebuchet MS"/>
              </a:rPr>
              <a:t>Voluntary”? (1)</a:t>
            </a: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2000" y="1523880"/>
            <a:ext cx="8820000" cy="34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60360" indent="-36036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Definition Merriam-Webster: “</a:t>
            </a:r>
            <a:r>
              <a:rPr b="0" lang="en-IE" sz="2200" spc="-1" strike="noStrike">
                <a:solidFill>
                  <a:srgbClr val="000000"/>
                </a:solidFill>
                <a:latin typeface="Trebuchet MS"/>
              </a:rPr>
              <a:t>done or given because you want to and not because you are forced to : done or given by choice”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60360" indent="-36036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No legal obligation -&gt;no sanctions – no penalt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60360" indent="-36036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If it is voluntary, one has the choice to use standards or not -&gt; not generally applied -&gt; against the objective of the policy maker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6036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6036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De facto compulsory: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6036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60360" indent="-36036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Reference in legislation (CPR)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60360" indent="-36036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Public procurement (e.g. ISO 27000 cybersecurity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60360" indent="-36036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Market pressure (sanctioned!!!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60360" indent="-36036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Sub-contracting (forced…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7999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4c5d68"/>
                </a:solidFill>
                <a:latin typeface="Trebuchet MS"/>
              </a:rPr>
              <a:t>Interludium</a:t>
            </a: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2000" y="1523880"/>
            <a:ext cx="8820000" cy="34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6520" indent="-41652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2200" spc="-1" strike="noStrike">
                <a:solidFill>
                  <a:srgbClr val="000000"/>
                </a:solidFill>
                <a:latin typeface="Trebuchet MS"/>
              </a:rPr>
              <a:t>Leviticus 19:35 </a:t>
            </a:r>
            <a:r>
              <a:rPr b="0" lang="en-IE" sz="2200" spc="-1" strike="noStrike">
                <a:solidFill>
                  <a:srgbClr val="000000"/>
                </a:solidFill>
                <a:latin typeface="Trebuchet MS"/>
              </a:rPr>
              <a:t>"'Do not use dishonest standards when measuring length, weight or quantity.”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16520" indent="-41652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2200" spc="-1" strike="noStrike">
                <a:solidFill>
                  <a:srgbClr val="000000"/>
                </a:solidFill>
                <a:latin typeface="Trebuchet MS"/>
              </a:rPr>
              <a:t>Proverbs 20:23 </a:t>
            </a:r>
            <a:r>
              <a:rPr b="0" lang="en-IE" sz="2200" spc="-1" strike="noStrike">
                <a:solidFill>
                  <a:srgbClr val="000000"/>
                </a:solidFill>
                <a:latin typeface="Trebuchet MS"/>
              </a:rPr>
              <a:t>“The LORD detests differing weights, and dishonest scales do not please him.”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16520" indent="-41652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Deuteronomy 25:13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"You shall not have in your bag differing weights, a large and a small.”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16520" indent="-41652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verbs 11:1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“A false balance is an abomination to the LORD, But a just weight is His delight.”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16520" indent="-41652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Ezekiel 45:10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"You shall have just balances, a just ephah and a just bath.”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1652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1652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1652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7999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4c5d68"/>
                </a:solidFill>
                <a:latin typeface="Trebuchet MS"/>
              </a:rPr>
              <a:t>“</a:t>
            </a:r>
            <a:r>
              <a:rPr b="0" lang="en-GB" sz="3000" spc="-1" strike="noStrike">
                <a:solidFill>
                  <a:srgbClr val="4c5d68"/>
                </a:solidFill>
                <a:latin typeface="Trebuchet MS"/>
              </a:rPr>
              <a:t>Voluntary”?  (2)</a:t>
            </a: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2000" y="1523880"/>
            <a:ext cx="8820000" cy="34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2480" indent="-40248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Standards can have (even limited) binding legal effec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0248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02480" indent="-40248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High degree of persuasiveness and influenc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0248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02480" indent="-40248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Standards are used to regulate the internal market – avoiding the legislative proces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0248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02480" indent="-40248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Standards are a policy instrument to ensure the proper functioning of the internal market to ensure a high level of consumer and environmental  protection  (COM(2011)311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7999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4c5d68"/>
                </a:solidFill>
                <a:latin typeface="Trebuchet MS"/>
              </a:rPr>
              <a:t>Legal status  (1)</a:t>
            </a: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2000" y="1844280"/>
            <a:ext cx="8820000" cy="31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Trebuchet MS"/>
              </a:rPr>
              <a:t>Literature : widespread view of standards as quasi regulation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6836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68360" indent="-46836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i="1" lang="en-GB" sz="2200" spc="-1" strike="noStrike">
                <a:solidFill>
                  <a:srgbClr val="000000"/>
                </a:solidFill>
                <a:latin typeface="Trebuchet MS"/>
              </a:rPr>
              <a:t>Nemo censetur ignorare legem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6836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68360" indent="-46836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Properly promulgated, published and distributed by being printed in a government gazette, made available over the internet, or printed in volumes for sales at affordable prices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6836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7999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4c5d68"/>
                </a:solidFill>
                <a:latin typeface="Trebuchet MS"/>
              </a:rPr>
              <a:t>Legal status (2)</a:t>
            </a:r>
            <a:endParaRPr b="0" lang="en-US" sz="3000" spc="-1" strike="noStrike">
              <a:solidFill>
                <a:srgbClr val="4c5d68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37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2120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21200" indent="-42120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Trebuchet MS"/>
              </a:rPr>
              <a:t>Knooble case  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c NNI and Dutch state.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utch supreme court: NEN standards are not generally binding provisions issued by the government and therefor were not free from copyright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2120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21200" indent="-42120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Germany DIN Bundesverfassungsgericht : free acces to technical standards justifies exclusion of copyrights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2120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21200" indent="-421200">
              <a:lnSpc>
                <a:spcPct val="104000"/>
              </a:lnSpc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rebuchet MS"/>
              </a:rPr>
              <a:t>Conclusion: legal status standards is unclear. When will there be a case for the European Court of Justice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c</dc:creator>
  <dc:description/>
  <dc:language>en-US</dc:language>
  <cp:lastModifiedBy>Tessa</cp:lastModifiedBy>
  <cp:lastPrinted>2016-10-19T07:31:56Z</cp:lastPrinted>
  <dcterms:modified xsi:type="dcterms:W3CDTF">2016-10-21T13:04:52Z</dcterms:modified>
  <cp:revision>284</cp:revision>
  <dc:subject/>
  <dc:title>EU- Enlargement</dc:title>
</cp:coreProperties>
</file>